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184B-2127-4401-9CE5-EA15A27F5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4D9C-55F1-4D14-9304-7ABC5C36D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3583-A589-4E29-87E3-269BB8D83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1E93-4C79-4A3C-914E-92B7CAF8C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F0E6-1E7D-4F1E-A36C-AB52C8A35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6733-BF2E-48A1-9840-600A8CFB2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7510-0A3F-4121-BC76-5F7CB053E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0A68-C197-49C2-BE58-0A1D09C46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EE76-80ED-4207-A03D-F57C1955B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6216-9020-42F9-A2D8-6428BE4B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CF80-D891-4584-A765-B683CAF61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E912-F0CE-4780-AF2C-EC1BB44D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8C8C9-0BF2-4814-BBF4-A062C5D59E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65736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Владивостокский государственный университет экономики и сервиса</a:t>
            </a:r>
            <a:br>
              <a:rPr sz="2600"/>
            </a:b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Институт информатики инноваций и бизнес систем</a:t>
            </a: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3333ff"/>
                </a:solidFill>
                <a:latin typeface="Tahoma"/>
              </a:rPr>
              <a:t>Предмет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ff"/>
                </a:solidFill>
                <a:latin typeface="Tahoma"/>
              </a:rPr>
              <a:t>«Технологии Интернет»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Руководитель: Сачко Максим Анатольевич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старший преподаватель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1A1D6-614E-43CA-94EF-5249D7D44AA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Сервер состоит из программы-демона dhcpd, ее конфигурационного файла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/etc/dhcpd.conf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и файла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dhcpd.leases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, в который сервер заносит информацию о выделенных адрес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Для работы с сервером необходимо создать конфигурационный файл, после чего запустить программу-дем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-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DHCP сервер под Un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0FE0A-C3D3-43DE-B67D-C85606A2C83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В конфигурационном файле определяются пространства IP-адресов, назначаемых клиентам, дополнительная информация по конфигурации стека TCP/IP, передаваемая клиентам, а также описываются хосты, которым назначаются фиксированные IP-адреса (по MAC-адресу хоста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9950E-4098-4B1D-B6C6-2DF196C3767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Для каждой обслуживаемой сервером IP-сети создается отдельный раздел, где указываю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маска сети (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netmask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диапазон(ы) выдаваемых IP-адресов (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range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время по умолчанию, на которое выдается адрес, в секундах (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default-lease-time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максимальное время, на которое может быть выдан адрес, если хост запрашивает конкретное время, в секундах (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max-lease-time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-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Конфигурационный фай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DC119-3769-4D28-A84C-800D6AD1BEE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маска сети, передаваемая клиенту (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subnet-mask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широковещательный адрес (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broadcast-address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адреса шлюзов (для маршрута по умолчанию) (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routers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имя домена (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domain-name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адреса DNS-серверов (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domain-name-servers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-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Дополнительные опции (op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44C4D-D55A-4003-A9AB-814188BB3AA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subnet 194.84.124.0 netmask 255.255.255.0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range 194.84.124.100 194.84.124.127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range 194.84.124.200 194.84.124.254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default-lease-time 600 max-lease-time 720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option subnet-mask 255.255.255.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option broadcast-address 194.84.124.255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option routers 194.84.124.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option domain-name-servers 194.84.124.4, 193.232.88.17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-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3. Пример конфигур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5C1DD-CA09-4830-96C7-F33358408D4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host ocean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hardware ethernet 08:00:26:4c:54:23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fixed-address 194.84.124.24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option domain-name-servers 194.84.124.4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-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Пример раздела конфигурации хо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15F35-DCC8-4254-8D0A-B260B71E857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DHCP клиент под Unix (от Internet Software Consortium) состоит из программы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dhclient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, конфигурационного файла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/etc/dhclient.conf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и файла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dhclient.leases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в который клиент заносит информацию о выданных ему адресах и настрой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-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DHCP-клиент под Un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F17CA-739B-4B5B-9651-E519F6D1932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retry time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период повторных попыток соединения с сервером в случае неудачи; измеряется в секундах, по умолчанию - 300 с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request option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запросить у сервера передачу опции option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require option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в случае, если сервер не передал опцию option, отвергнуть конфигурацию, предложенную сервер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send option declaration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передать серверу значение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declaration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опции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o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-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Директив конфигурационного фай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81E43-258F-4CFC-99FF-3C0F80E2119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ff"/>
                </a:solidFill>
                <a:latin typeface="Tahoma"/>
              </a:rPr>
              <a:t>default option declaration</a:t>
            </a:r>
            <a:r>
              <a:rPr b="0" lang="ru-RU" sz="2500" spc="-1" strike="noStrike">
                <a:solidFill>
                  <a:srgbClr val="3333ff"/>
                </a:solidFill>
                <a:latin typeface="Tahoma"/>
              </a:rPr>
              <a:t> - установить значение declaration для опции option, если сервер не передал эту опцию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ff"/>
                </a:solidFill>
                <a:latin typeface="Tahoma"/>
              </a:rPr>
              <a:t>supersede option declaration</a:t>
            </a:r>
            <a:r>
              <a:rPr b="0" lang="ru-RU" sz="2500" spc="-1" strike="noStrike">
                <a:solidFill>
                  <a:srgbClr val="3333ff"/>
                </a:solidFill>
                <a:latin typeface="Tahoma"/>
              </a:rPr>
              <a:t> - установить значение declaration для опции option, независимо от того, что передал сервер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ff"/>
                </a:solidFill>
                <a:latin typeface="Tahoma"/>
              </a:rPr>
              <a:t>prepend option declaration</a:t>
            </a:r>
            <a:r>
              <a:rPr b="0" lang="ru-RU" sz="2500" spc="-1" strike="noStrike">
                <a:solidFill>
                  <a:srgbClr val="3333ff"/>
                </a:solidFill>
                <a:latin typeface="Tahoma"/>
              </a:rPr>
              <a:t> - добавить значение для опции к значению, переданному сервером, поставив свое значение первым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ff"/>
                </a:solidFill>
                <a:latin typeface="Tahoma"/>
              </a:rPr>
              <a:t>append option declaration</a:t>
            </a:r>
            <a:r>
              <a:rPr b="0" lang="ru-RU" sz="2500" spc="-1" strike="noStrike">
                <a:solidFill>
                  <a:srgbClr val="3333ff"/>
                </a:solidFill>
                <a:latin typeface="Tahoma"/>
              </a:rPr>
              <a:t> - добавить значение для опции к значению, переданному сервером, поставив свое значение последним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-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Директив конфигурационного фай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4708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Зачем нужно динамическое распределение IP-адресов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Укажите преимущества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динамического распределения IP-адресов и недостатки по сравнению со статическ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Какие функции выполняет 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DHCP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сервер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Каким образом происходит конфигурирование 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DHCP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сервер и клиент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Какие данные передает 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DHCP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сервер клиент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ff"/>
                </a:solidFill>
                <a:latin typeface="Arial"/>
              </a:rPr>
              <a:t>Вопросы для самопровер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11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Tahoma"/>
              </a:rPr>
              <a:t>Тема</a:t>
            </a:r>
            <a:r>
              <a:rPr b="1" lang="ru-RU" sz="41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1" lang="en-US" sz="4100" spc="-1" strike="noStrike">
                <a:solidFill>
                  <a:srgbClr val="3333ff"/>
                </a:solidFill>
                <a:latin typeface="Tahoma"/>
              </a:rPr>
              <a:t>2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63640" y="2421000"/>
            <a:ext cx="5869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ahoma"/>
              </a:rPr>
              <a:t>Назван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66ff"/>
                </a:solidFill>
                <a:latin typeface="Tahoma"/>
              </a:rPr>
              <a:t>Рекомендуемая литература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, Петренко С. Технологии защиты информации в Интернете. Специальный справочник. – СПб: "Питер",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К. Хант. Персональные компьютеры в сетях TCP/IP: Руководство администратора сети/ Пер. с англ. – СПб.: ЗАО "ЭлектроникаБизнесИнформатика", Киев: "BHV", 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2003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UNIX для системных администраторов: Энциклопедия пользователя/ Пер.с англ. – Киев: ДиаСофт, 200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31734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Tahoma"/>
              </a:rPr>
              <a:t>Использование материалов презент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3280" y="51228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ff"/>
                </a:solidFill>
                <a:latin typeface="Tahoma"/>
              </a:rPr>
              <a:t>Содержание: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4000" y="1520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1) Протокол DHC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2) DHCP-клиенты и серве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3) Конфигуриро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1B578-AD35-41B5-AC50-3E1CD7D634C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Цель: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научиться настраивать сервер DHCP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Основная концепция: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DHCP-сервер, получая запрос на конфигурацию от хоста, предлагает ему настройки стека TCP/IP. Эти настройки могут быть как индивидуальными для хоста, так и создаваться динамически с учетом свободных в настоящий момент ресурсов (</a:t>
            </a:r>
            <a:r>
              <a:rPr b="0" i="1" lang="en-US" sz="2800" spc="-1" strike="noStrike">
                <a:solidFill>
                  <a:srgbClr val="3333ff"/>
                </a:solidFill>
                <a:latin typeface="Tahoma"/>
              </a:rPr>
              <a:t>IP-адресов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). Настройки могут выдаваться сервером в пользование хосту на определенное врем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-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DHCP-сервер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F1467-6D9F-4B4C-A286-9FA3587BD2C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Использование протокола DHCP в сети предприятия может быть вызвана необходимостью автоматизировать конфигурирование большого числа пользовательских рабочих станций для работы с протоколами TCP/I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Также важно, что при переносе компьютера из одной сети в другую не требуется ручного изменения его настро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-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1</a:t>
            </a: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. Протокол DH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468D3-EA36-4B64-9738-40E37E31BE7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Настройки стека TCP/IP передаются рабочей станции сервером DHCP после того, как станция во время своей загрузки выдаст широковещательный запрос параметров своей конфигурации, на который и откликается сервер. Данные конфигурации включают в себя IP-адрес рабочей станции, а также (опционально) адреса маршрутизатора (шлюза) и сервера DNS, имя домена и т.п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FADE6-01F1-447B-8904-48735814081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Сервер получает запрос и откликается с предложением об аренде (lease), содержащим конфигурационные данные для хо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Хост может получить предложения от нескольких DHCP-серверов, работающих в его сети. Хост, на основании настроек своего DHCP-клиента, решает принять предложение определенного сервера (или принять первое поступившее предложение, если никаких настроек нет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Хост отвечает выбранному серверу сообщением "выбор". Сервер подтверждает выдачу аренды; после получения подтверждения хост конфигурирует себя в соответствии с полученными данны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-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Взаимодействия сервера и клиен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5E621-8790-46C1-B364-F4D42BBEEA3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Один DHCP-сервер может работать в нескольких сетях. Для этого в каждой сети должен быть сконфигурирован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DHCP-relay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специальный посредник, который будет ретранслировать сообщения между сервером и хостом, запросившим конфигура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Без посредника DHCP-сервер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не услышит запросов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, так как широковещательные IP-дейтаграммы не выходят за пределы IP-се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-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DHCP-re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FA68E-405F-4D01-9587-ADB899D57DC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IP-адрес, присваиваемый рабочей станции, может браться сервером из пространства специально для этого выделенных адресов (берется первый свободный адрес). В этом случае у рабочей станции 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нет постоянного IP-адреса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IP-адрес, присваиваемый конкретной рабочей станции, может быть и 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фиксированным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, для этого надо знать MAC-адрес (Ethernet-адрес) рабочей станции и соответствующим образом настроить серв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054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1519-sachko</cp:lastModifiedBy>
  <dcterms:modified xsi:type="dcterms:W3CDTF">2009-01-13T03:20:53Z</dcterms:modified>
  <cp:revision>177</cp:revision>
  <dc:subject/>
  <dc:title>Lecture Template </dc:title>
</cp:coreProperties>
</file>